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15.png" ContentType="image/png"/>
  <Override PartName="/ppt/media/image26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6BBD-B061-42BC-8AB0-E122AC802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6F86-D2AD-4873-BCE6-ED872C2DA8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B3D1-1737-4044-B38B-DC3857F4BE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3AE7-182A-49FA-9817-31BA85570A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0759-985B-4658-AB42-8E6119F72A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25B8-87D3-453D-9AB8-12813512DF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6C27-330D-46B2-876B-E3E7E714A9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19FE-95C8-4B80-8B3A-CBE7FD8B9A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B98B-2087-42D1-B688-47CD78F675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59C-428E-49DB-8D05-D9EB5BB7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955-CC10-4F75-86AD-AF80B23F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044-5724-41D7-AED2-BF9A8829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B8D-0CA9-495C-AFDF-B3771926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2B2B-A1D4-43BB-AD00-3C7E8DCA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B194-78DB-4832-8B0D-504D0FF7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6579-6061-4722-99D2-4743D1ED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81D2-017B-4E9F-AB79-B49CFF2E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2811-D432-4F61-AD95-19512E9E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F85D-193E-480F-A2FB-97047EAE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690D-F362-4C36-B5ED-D0C585AB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01D-2528-4318-9856-F73513BA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595E-26A4-45C9-8A4F-9B4D6795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7FB5-A04B-4CCC-BF37-2C5F8663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1955-16D8-431F-87D0-029F0B2E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DC91-77D6-48E2-BE28-C4C62D82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76EC-514E-4BDF-AA3A-942A5AE4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009-CA53-4287-9BBA-1B0542B3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814-A534-4EF8-8A45-E4815053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8E8-945F-4B7A-927B-A917F3D2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D1B-CBCF-473A-922C-F8458C2B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52A-A507-421A-B0CF-68826B14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B74-0DC0-4D55-A9EF-7BE5C1DE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A48-9CBA-46A6-8208-DADAD599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9425-DA8D-4786-8995-B2AFD17DCE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93E7-E0F3-4C8F-A5D1-853C28CE3E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upload.wikimedia.org/wikipedia/commons/e/e6/Rock_paper_scissors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dustrial Revolution, Imperialism, and Nationa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. Costs &amp; Benefits Char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. Effects of Industrial Rev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banization: Move from country to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laws: Child labor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Reforms: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political ideas: Socialism, Commu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erialism: Need more raw materials &amp; markets to sell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chambeau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51814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competing in Rochamb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time you win – you receive a candy from your op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are out of candy you are out of the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e to be the grea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Image:Rock paper scissor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3992400"/>
            <a:ext cx="35812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itives &amp; Negatives of the Industrial Rev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More jo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Wealth of countries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Higher standard of li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Production of goods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New inven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Improvements in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Expanded educational opport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Better diets &amp; ho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New middle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Government more invol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Child labor la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Labor unions for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6520" y="1599840"/>
            <a:ext cx="4268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G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oor worki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New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oor san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Overcrow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ol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Life expectancy decreases for the poor (by 10 yea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 years of 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Work dictates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 vs. Rochambea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240" y="837720"/>
            <a:ext cx="42670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te ownership of industry, competition = unequal 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Strug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per class and working class struggle over w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rs Revo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is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ovt. owns industry, goal of equality &amp; classlessn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s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o government, no clas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7960" y="837720"/>
            <a:ext cx="4343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ism in the Ga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dy, game, few win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gg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d, frustr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ol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aling, che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 candy, redistribute it equ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candy is eq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game/teac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treme unequal weal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ory owners have more money then 95 percent of society can even imag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money is being made from poor children and wo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defend themselv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5" descr="image_wealth"/>
          <p:cNvPicPr/>
          <p:nvPr/>
        </p:nvPicPr>
        <p:blipFill>
          <a:blip r:embed="rId4"/>
          <a:stretch/>
        </p:blipFill>
        <p:spPr>
          <a:xfrm>
            <a:off x="6324480" y="3886200"/>
            <a:ext cx="23148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rwin's The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y originally implies that stronger animals kill weaker 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nature by leaving only stro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r?t=a&amp;d=us&amp;s=a&amp;c=p&amp;ti=1&amp;ai=30751&amp;l=dir&amp;o=0&amp;sv=0a30051a&amp;ip=465e209c&amp;u=http%3A%2F%2Fwww"/>
          <p:cNvPicPr/>
          <p:nvPr/>
        </p:nvPicPr>
        <p:blipFill>
          <a:blip r:embed="rId3"/>
          <a:stretch/>
        </p:blipFill>
        <p:spPr>
          <a:xfrm>
            <a:off x="5867280" y="3809880"/>
            <a:ext cx="20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not hum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ry is used to construct Social Darwi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s belief that wealthy factory owners are naturally stro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ing the poor would only weaken human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7" descr="Mario Bros. Survival of the Fittest  T-Shirt"/>
          <p:cNvPicPr/>
          <p:nvPr/>
        </p:nvPicPr>
        <p:blipFill>
          <a:blip r:embed="rId4"/>
          <a:stretch/>
        </p:blipFill>
        <p:spPr>
          <a:xfrm>
            <a:off x="4648320" y="1600200"/>
            <a:ext cx="4403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l Marx – believed struggle between rich and poor would always lead to 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eliminate rich and poor which will eliminate 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 of Commu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r?t=a&amp;d=us&amp;s=a&amp;c=p&amp;ti=1&amp;ai=30751&amp;l=dir&amp;o=0&amp;sv=0a300513&amp;ip=465e209c&amp;u=http%3A%2F%2Fwww"/>
          <p:cNvPicPr/>
          <p:nvPr/>
        </p:nvPicPr>
        <p:blipFill>
          <a:blip r:embed="rId4"/>
          <a:stretch/>
        </p:blipFill>
        <p:spPr>
          <a:xfrm>
            <a:off x="5486400" y="3352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x’s Commu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All people begin with 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apital is not equally di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Society is broken down into haves and have n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Have-nots get mad and conflict between classes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Have-nots revolt, creating a government that takes from rich and gives to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Capital is divided eq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Competition ceases – everyone is equ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cu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roblems are created by trying to divide things equal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roblems plague communist count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roblems plague capitalist count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system is worse?  Expl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rban Gam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why this activity was done. What was the purpose of using class time to do the Urban Gam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could do the Urban Game again, what would you do differently and what would you do the same? Explain your answ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44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answer to these two questions should be at least one paragraph (minimum of 5 sentences) on the back of your urban game sheet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15235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: The first person to write the correct answer gets to pick a person to take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s may only pick people/groups of equal or smaller siz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ion is demanded, help your team dominate your fo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2" descr="http://l.yimg.com/g/images/spaceball.gif"/>
          <p:cNvPicPr/>
          <p:nvPr/>
        </p:nvPicPr>
        <p:blipFill>
          <a:blip r:embed="rId4"/>
          <a:stretch/>
        </p:blipFill>
        <p:spPr>
          <a:xfrm>
            <a:off x="3809880" y="-178596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/prom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ree leaders of the Scientific R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developed the first written langua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ere the Brewers called before this na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the exact date of WW2’s star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nvented the printing pr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opic of the first unit in the textboo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Renaissance me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resident was shot in 196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ree Johnny Depp mov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SOAPS stand f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REE mupp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han Hale served in what w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ree Adam Sandler mov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shot Abraham Lincol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what continent can I find the country of Swazil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ish the pattern: 15, 30, 60, 120, 240 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x9+9= 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one entertainer on this season of Dancing with the Sta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won last years World Seri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it mean when you get a “turkey” in bowl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hat continent are the Andes Mountai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NATO stand f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ree types/brands of ce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was the last Queen of Hawai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you pick the people of groups you cho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this game was like imperi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they are diffe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(should have been) the strategy in the g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begins to happen as the game continues on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ree/Disag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eople are born superior to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althy should pay more in ta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ity leads to the suffering of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law is an infraction of liberty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Bent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progress can be measured by the social position of the female sex” -Mar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stories of mankind are histories only of the higher classes” -Malth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I. Imperi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 Imperial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A policy in which a strong n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eks to dominate other count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Occurred 1850-19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http://rds.yahoo.com/_ylt=A9iby4fwtDZGQmYAVVejzbkF;_ylu=X3oDMTBsMW5yM3VoBHNlYwNwcm9mBHZ0aWQDSTA2Nl84OA--/SIG=128h7faop/EXP=1178076784/**http%3A/www.hyperhelper.org/williams/imperialism2.jpg"/>
          <p:cNvPicPr/>
          <p:nvPr/>
        </p:nvPicPr>
        <p:blipFill>
          <a:blip r:embed="rId1"/>
          <a:stretch/>
        </p:blipFill>
        <p:spPr>
          <a:xfrm>
            <a:off x="990720" y="4159080"/>
            <a:ext cx="668484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. Reasons for Imperi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Nation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Political Rival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Quest for colonies limit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 Industrial R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Need for raw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eed for new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Religion: Convert to Christia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Feelings of racial &amp; cultural supe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Goal: To “civilize” people of Africa &amp; 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Imposed Christianity &amp; Western customs/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itions on conquered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Forms of Imperi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Colony: A country or territory governed internally by a foreign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aliland (French Colon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Protectorate: Country had own internal gov., but under control of an outside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ger River (British Contro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 Form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Sphere of Influence: An outside power held exclusive trading rights in a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eria (US influ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Economic Imperialism: A business controls an underdeveloped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e fruit controlled Hawa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deo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Imperialism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happening in Afric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olonel Patterson’s jo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settlement and the work force li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the British w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problems facing the settl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https://encrypted-tbn1.gstatic.com/images?q=tbn:ANd9GcRuvbDDlb6v13mMY5UY3jvQA3qgbBSQ2qib_aZqaAVF_MCDOyou"/>
          <p:cNvPicPr/>
          <p:nvPr/>
        </p:nvPicPr>
        <p:blipFill>
          <a:blip r:embed="rId1"/>
          <a:stretch/>
        </p:blipFill>
        <p:spPr>
          <a:xfrm>
            <a:off x="66600" y="20520"/>
            <a:ext cx="9056880" cy="61516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. Intro to the Industrial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240" y="1218960"/>
            <a:ext cx="84582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Agricultural Adv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Farming Improvements allow indust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nclosure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Common lands were purchased and fe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Two options for the poorer farmers: Becom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ant farmers OR Move to the 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Wealthy Farmers experiment with ne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 (crop rotation, selective breed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. Reasons for European su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Weapons Tech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New Inven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ilroad, Steam engin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nine drug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Weakness of non-Western states: Lacked unity, w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entralized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vickers%20MKI"/>
          <p:cNvPicPr/>
          <p:nvPr/>
        </p:nvPicPr>
        <p:blipFill>
          <a:blip r:embed="rId1"/>
          <a:stretch/>
        </p:blipFill>
        <p:spPr>
          <a:xfrm>
            <a:off x="6019920" y="1295280"/>
            <a:ext cx="3124080" cy="1447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A1673"/>
          <p:cNvPicPr/>
          <p:nvPr/>
        </p:nvPicPr>
        <p:blipFill>
          <a:blip r:embed="rId2"/>
          <a:stretch/>
        </p:blipFill>
        <p:spPr>
          <a:xfrm>
            <a:off x="5686560" y="2743200"/>
            <a:ext cx="34574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xplain the quote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sun never sets on the British Empir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IMG_0813"/>
          <p:cNvPicPr/>
          <p:nvPr/>
        </p:nvPicPr>
        <p:blipFill>
          <a:blip r:embed="rId1"/>
          <a:stretch/>
        </p:blipFill>
        <p:spPr>
          <a:xfrm>
            <a:off x="0" y="365760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1y7syo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= British Empire during Age of Imperi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7" descr="The_British_Empire"/>
          <p:cNvPicPr/>
          <p:nvPr/>
        </p:nvPicPr>
        <p:blipFill>
          <a:blip r:embed="rId1"/>
          <a:stretch/>
        </p:blipFill>
        <p:spPr>
          <a:xfrm>
            <a:off x="380880" y="1824120"/>
            <a:ext cx="838224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II. Imperialism in Afr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 Little was known about Africa until 180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David Livingstone: Scottish missionary/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tor explored central &amp; eastern Afr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 Reports of journey sent to Eng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Lost touch: British journalist Hen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ley sent to fin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New interest in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te Man’s Bur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http://rds.yahoo.com/_ylt=A9ibyGZDtDZGOZwAI46jzbkF;_ylu=X3oDMTBsMW5yM3VoBHNlYwNwcm9mBHZ0aWQDSTA2Nl84OA--/SIG=13tigmh6t/EXP=1178076611/**http%3A/www.history.ucsb.edu/faculty/marcuse/classes/2c/images/1899WhiteMansBurden$Detroit200dpi300pxw.jpg"/>
          <p:cNvPicPr/>
          <p:nvPr/>
        </p:nvPicPr>
        <p:blipFill>
          <a:blip r:embed="rId1"/>
          <a:stretch/>
        </p:blipFill>
        <p:spPr>
          <a:xfrm>
            <a:off x="914400" y="1371600"/>
            <a:ext cx="7620120" cy="43434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6"/>
          <p:cNvSpPr/>
          <p:nvPr/>
        </p:nvSpPr>
        <p:spPr>
          <a:xfrm>
            <a:off x="1143000" y="59436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essage of this carto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White Man’s Bur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em written by Rudyard Kipling in England to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Justified imperialism as a "duty" to civilize inferior race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864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essage of this carto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2" descr="http://rds.yahoo.com/_ylt=A9iby4B8tDZGAaUABVmjzbkF;_ylu=X3oDMTBsMW5yM3VoBHNlYwNwcm9mBHZ0aWQDSTA2Nl84OA--/SIG=12ec4k6s5/EXP=1178076668/**http%3A/www.ocf.berkeley.edu/~trisha/contemp/pics/civil.jpg"/>
          <p:cNvPicPr/>
          <p:nvPr/>
        </p:nvPicPr>
        <p:blipFill>
          <a:blip r:embed="rId2"/>
          <a:stretch/>
        </p:blipFill>
        <p:spPr>
          <a:xfrm>
            <a:off x="685800" y="277920"/>
            <a:ext cx="746748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. Effects of Imperialism on Afr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mperialists profited from colonies: Dug  mines, began plantations, &amp; built fa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Hired Africans at low w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Destroyed Africans traditional ways of lif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Taught European ways were b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Taught to reject African customs &amp; belief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mission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earned to read European books &amp; we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uropean clot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erialism in Asi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British Imperialism in I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dia's trade controlled by East India Company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ce 1600'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Mughal empire ended in 17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nsidered India the "jewel in the crown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Why? Most valuable British col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Sepoy Rebe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Indian soldiers (sepoys) rebelled again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tish commanders in 18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Lasted for 1 year: F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Result: Viceroy sent to take over I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ationalist groups formed: Wanted free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erialism in As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. Chi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Had no interest in European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Wanted to keep to their traditional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2971800" y="2917800"/>
            <a:ext cx="266688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 Preindustrial vs Industrial Ti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EINDUSTRIAL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EFORE 1700’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Lived in small vill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Worked as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Grew or made what the family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Domestic system: Made goods at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24280" y="17521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DUSTRIAL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700-19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Lived in 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Worked in fa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Needed $ to buy goods &amp;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Factory System: Made goods in fa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Forced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England had little to o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Opium from India brought t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Country became unproductive &amp; qua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life declin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Government banned its use and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England did not 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Trea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England demanded the opening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na &amp; free trade righ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Open Door Policy: China’s “doors” 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o merchants of all n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China had no choice but to ag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England will hold on to land rights 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ng Kong until 1997 (150 year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40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. Japa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Adopted Western moder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Focused on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Universal educationa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Strengthened mili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ecame strongest military power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ame motives &amp; advantages as Eur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stablished overseas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Taiwan, Pescadores Islands, &amp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o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Started in England: W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Expanding Economy: Banking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ural Resour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Water power &amp; coal: Fuel new machi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Iron: Construct machines, tools &amp; buildin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Harbors &amp; Rivers to transport goo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Growing Population: Workfo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dvances in farm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: led to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in factor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Political St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 Navy: Greatest on the pl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england2"/>
          <p:cNvPicPr/>
          <p:nvPr/>
        </p:nvPicPr>
        <p:blipFill>
          <a:blip r:embed="rId1"/>
          <a:stretch/>
        </p:blipFill>
        <p:spPr>
          <a:xfrm>
            <a:off x="6118200" y="4114800"/>
            <a:ext cx="3025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. Positives &amp; Negatives of the 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Industrial Rev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s: Use pages 723-728 in the book to create a list of positives &amp; negatives of the Industrial Revolu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914400" y="41148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4191120" y="41911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itives &amp; Negatives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ions &amp; Indust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VES (BENEFI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More jo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Wealth of countries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Higher standard of li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Production of goods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New inven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Improvements in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Expanded educational opport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Government more invol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Child labor la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Labor unions for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599840"/>
            <a:ext cx="4268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GATIVES (CO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New dis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Poor san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Overcrow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itives &amp; Negatives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manity &amp; Individu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ITIVES (BENEF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More jo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Higher standard of l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New i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Improvements in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Expanded educational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Better diets &amp; hou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New middle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Child labor la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6520" y="1599840"/>
            <a:ext cx="4268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GATIVES (CO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oor worki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New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oor san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Overcrow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ol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Life expectancy decreases for the poor (by 10 yea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 years of 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Work dictates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smallmill"/>
          <p:cNvPicPr/>
          <p:nvPr/>
        </p:nvPicPr>
        <p:blipFill>
          <a:blip r:embed="rId1"/>
          <a:stretch/>
        </p:blipFill>
        <p:spPr>
          <a:xfrm>
            <a:off x="152280" y="0"/>
            <a:ext cx="4267440" cy="3567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rds.yahoo.com/_ylt=A9iby6A9FjBGGm0ATI.jzbkF;_ylu=X3oDMTBsMW5yM3VoBHNlYwNwcm9mBHZ0aWQDSTA2Nl84OA--/SIG=12rfu2ddr/EXP=1177642941/**http%3A/www.mtholyoke.edu/courses/rschwart/ind_rev/images/IR36GR21x1.jpg"/>
          <p:cNvPicPr/>
          <p:nvPr/>
        </p:nvPicPr>
        <p:blipFill>
          <a:blip r:embed="rId2"/>
          <a:stretch/>
        </p:blipFill>
        <p:spPr>
          <a:xfrm>
            <a:off x="4432320" y="0"/>
            <a:ext cx="4711680" cy="3594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http://rds.yahoo.com/_ylt=A9ibyGUJFzBGH4sAg4ijzbkF;_ylu=X3oDMTBsMW5yM3VoBHNlYwNwcm9mBHZ0aWQDSTA2Nl84OA--/SIG=12npeus4d/EXP=1177643145/**http%3A/www.cas.usf.edu/history/Syllabi/Levy/2010images/tenement.jpg"/>
          <p:cNvPicPr/>
          <p:nvPr/>
        </p:nvPicPr>
        <p:blipFill>
          <a:blip r:embed="rId3"/>
          <a:stretch/>
        </p:blipFill>
        <p:spPr>
          <a:xfrm>
            <a:off x="6172200" y="3581280"/>
            <a:ext cx="2971800" cy="3276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train"/>
          <p:cNvPicPr/>
          <p:nvPr/>
        </p:nvPicPr>
        <p:blipFill>
          <a:blip r:embed="rId4"/>
          <a:stretch/>
        </p:blipFill>
        <p:spPr>
          <a:xfrm>
            <a:off x="0" y="35812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v0_master"/>
          <p:cNvPicPr/>
          <p:nvPr/>
        </p:nvPicPr>
        <p:blipFill>
          <a:blip r:embed="rId5"/>
          <a:stretch/>
        </p:blipFill>
        <p:spPr>
          <a:xfrm>
            <a:off x="3352680" y="3581280"/>
            <a:ext cx="28195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20:51:04Z</dcterms:created>
  <dc:creator>School District</dc:creator>
  <dc:description/>
  <dc:language>en-US</dc:language>
  <cp:lastModifiedBy>Kuenzi</cp:lastModifiedBy>
  <dcterms:modified xsi:type="dcterms:W3CDTF">2014-03-31T12:25:20Z</dcterms:modified>
  <cp:revision>48</cp:revision>
  <dc:subject/>
  <dc:title>Industrial Revolution</dc:title>
</cp:coreProperties>
</file>